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3FA-0392-4E44-B184-D38E7D08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CBE-004F-4BEF-B12E-A0438E04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402-04B5-440E-A22A-772D6748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F95-9797-4744-B62A-4E1C3576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B51-0C22-484D-A7C5-EBA61448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D52-0B40-45F8-81C7-153BF5A8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219-2248-440C-BBAF-37A537B6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0F4-839F-4170-AD45-EA4B90A1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FB8-281A-4DF2-8CFA-E41D32BE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326-30BF-48C4-A2A4-5E98BCAB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B14-F4C1-4A97-9BF3-986B8B5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DB1-6F21-4DB6-A044-55DB478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8D7C-D2DE-40A2-982A-5D8B65704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Colos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Ty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4365720"/>
            <a:ext cx="3095640" cy="205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00360" cy="202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y did they have the Colos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72 AD Emperor Vespasian decided to  build the Colosseum to bring entertainment and breath taking events to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22:32:41Z</dcterms:created>
  <dc:creator>6g02</dc:creator>
  <dc:description/>
  <dc:language>en-US</dc:language>
  <cp:lastModifiedBy>6g02</cp:lastModifiedBy>
  <dcterms:modified xsi:type="dcterms:W3CDTF">2011-07-11T22:52:04Z</dcterms:modified>
  <cp:revision>3</cp:revision>
  <dc:subject/>
  <dc:title>The Colosseum</dc:title>
</cp:coreProperties>
</file>